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401-C5BD-4093-89FA-06B08B2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A15-76F4-4A06-BCA3-9D2923F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C96-25BD-487A-9375-F873BA65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50C-72E0-4818-AA51-0C6F6AC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737-38AC-41A5-9FCA-E8A169E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616C-D77F-4DF2-904A-8724F15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DC2A-C1E4-40C2-B400-4FD1239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F8D-72F1-453B-9ED0-B7D3A7F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9FE4-6216-451E-BF02-889EDCAD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95C4-9D0C-43E8-8A64-97AC7816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6979-8E18-4ED7-B592-F61A9FA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3E4-6074-4F4D-A9B2-D7B9EA4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2715-A438-4311-8C7F-974597F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3B6-3C70-40F2-BC20-2457BC0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B127-BC8D-4621-9984-43F86CA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09F-6FF5-4309-B9F6-BE7FF5C3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739-4BA8-4230-B361-B99A6FC9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B37-AC69-4E66-B0C4-4B990089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6B8-9C6A-4B39-A6EE-2EF00F8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BC6-6193-40BC-B6F1-BD705C48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CEC-D5A7-48B1-89F7-C81ED8E6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1EF-DFD6-4217-A657-EA572A8D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374-7C86-4607-84DD-39D9B0F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1EC-75B4-40D2-81B2-606F67F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7130-B23C-47B1-AABA-6316382A57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F5D-CCBC-41D4-8E89-DBD412555D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159217/elvis-presley-12-sing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OvUdZgl7vo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152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Elvis Presl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514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y: Sarah Menta &amp; Jon R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Turned music into a booming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conomic industry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locks, mug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 Me T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ilhous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ny stars also make appearances in movies in pres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20553600">
            <a:off x="4419360" y="1599840"/>
            <a:ext cx="1676160" cy="155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825600">
            <a:off x="6552720" y="1523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3124080"/>
            <a:ext cx="2209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S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reased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2 million to $521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1954-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un Coll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vis, Elvis Is B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Elvis in Memp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d six hit si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ne company's h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top 25 best sellers in 19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39625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Garamond"/>
              </a:rPr>
              <a:t>Bibliography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gel, Daniel. "Elvis Presley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em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asadena California: Salem Press, W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koski, Michael. "Elvis Presley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em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asadena California: Salem Press, W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kim, Joy. "The King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History of 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3rd ed. New York, New York: Oxford University Press, 2003. Pr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en, Jim. "Presley Becomes a Rock-an-Roll Sensation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20th Centu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3 vols. Pasadena, California: Salem Press, Inc., 2008. Pr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elman, Rob, and Tom Pendergast. "Presley, Elvis (1935–1977)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owling, Beatniks, and Bell-Bottoms: Pop Culture of 20th-Century Ame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Sara Pendergast and Tom Pendergast. Vol. 3: 1940s-1950s. Detroit: UXL, 2002. 689-69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resley, Elvis 1935-1977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merican Deca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Judith S. Baughman, et al. Vol. 6: 1950-1959. Detroit: Gale, 2001. 61-62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rault, Lisa M. "Rock and Roll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ctionary of American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Stanley I. Kutler. 3rd ed. Vol. 7. New York: Charles Scribner's Sons, 2003. 185-186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ander, Brock. "Presley, Elvi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ker's Biographical Dictionary of Musicia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Nicolas Slonimsky and Laura Kuhn. Vol. 5. New York: Schirmer, 2001. 2859-2861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To what extent did Elvis Presley challenge the status quo in America?</a:t>
            </a:r>
            <a:endParaRPr b="0" lang="en-US" sz="3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vis greatly challenged the status quo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to the greatest extent in easing th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blacks and whites, molding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of teen rebels, t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sion into a great means of entertainme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ed music into a booming economic indus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Eased the tensions and social gap between blacks and whi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28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50292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ro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rew up in Memphis, T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urrounded by black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istened to wide range of musical gen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 Phill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lvis’s first pro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”If I could find a white man with a Negro sound, I could make a billion dolla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e found this in E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aramond"/>
              </a:rPr>
              <a:t>The colored folk been singin’ it and playin’ it just the way I’m doin’ now, man, for more years than I know.” -Elvis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Packag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ing able to sing, dance, dress bl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ed the races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cceptable for whites to enjoy Rock ‘n’ R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pied black artists style of dress and rhy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ites began to listen to black artists;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Buddy Holley, Bill Ha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racial mind set amongst tee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listening to black artists, since youth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always look up to celebrity fig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1905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Created the first generation of American Rebels</a:t>
            </a:r>
            <a:endParaRPr b="0" lang="en-US" sz="3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22960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r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ggestive toward sexu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alling to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'A Little Less Conversation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less conversation, a little more action ple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ll this aggravation ain't satisfactioning 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more bite and a little less ba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less fight and a little more spa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Close your mouth and open up your heart and baby satisfy 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Satisfy me baby’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313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pied the style of urban g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cycle jack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ked back hai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assume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like a part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 member made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irls adored him, gu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be lik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ried by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19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nly showed from waste up on Ed Sullivan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ual hip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”…but many adults found his performances dangerous. It was the way he danced that upset them the most – they’d never seen anything like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t that bad, but worse than what parents in the ’50’s were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traditional ideas of marriage and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4800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Garamond"/>
              </a:rPr>
              <a:t>Turned television into a barometer of what we considered acceptable in our society</a:t>
            </a:r>
            <a:endParaRPr b="0" lang="en-US" sz="35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Reje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cert in Las Vegas canc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 Sulli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ue mark of his acceptance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5% of television watchers tun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rom then on out, he was a legitimate per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ound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6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ck ‘n’ Roll: The Phenomen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fter appearance on TV, r’n’r was more widely sh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vis was paid $125,000 on a ABC-TV  television show airing for six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k Sinatra, the host, once stated rock ‘n’ roll as “the most brutal, ugly, desperate, vicious form of expression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all changed when everyone accepted and adored Elvis’s sty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0 years later, he was broadcasted via satellites to 40 different countries in a farewell concert in Honolu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ed by about 1 b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6:49Z</dcterms:created>
  <dc:creator>11563</dc:creator>
  <dc:description/>
  <dc:language>en-US</dc:language>
  <cp:lastModifiedBy>Jon</cp:lastModifiedBy>
  <dcterms:modified xsi:type="dcterms:W3CDTF">2010-06-09T21:26:52Z</dcterms:modified>
  <cp:revision>13</cp:revision>
  <dc:subject/>
  <dc:title>Slide 1</dc:title>
</cp:coreProperties>
</file>